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4E7A-EF89-4013-9647-F0788E9C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8F9D-25C0-4226-9FB5-A72A09F8A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D0D5-202D-41F9-9F6D-3F30C9EED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CB8D-CADD-467C-BA27-D562D6532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062A-1558-49DC-B337-D06394630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564A-D5D6-4B20-A93D-13B259C07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97A3-93E6-4E67-BF2A-C85200703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A6C6-FBE0-48AF-A913-124E00C79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FB87-4E29-40C6-B8E3-06D4D3A69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97F2-51D0-426E-997E-3C9164A7B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D57F-1C1F-4479-A435-81EC69211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7E1D-F12A-44DF-83FE-9A3F7F2CC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59480"/>
            <a:ext cx="91486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4360" y="6462720"/>
            <a:ext cx="1739880" cy="3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88000" y="6208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F Tech Jamboree #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7240" cy="76320"/>
          </a:xfrm>
          <a:prstGeom prst="rect">
            <a:avLst/>
          </a:prstGeom>
          <a:solidFill>
            <a:srgbClr val="ff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94080" y="655308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6600" y="6524640"/>
            <a:ext cx="496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0EA4-2656-4D1F-B2D6-AC77E7ECC3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911920"/>
            <a:ext cx="9148680" cy="94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156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98600" y="5473440"/>
            <a:ext cx="10634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960" y="648000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8240" y="1798200"/>
            <a:ext cx="8329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636640"/>
            <a:ext cx="8329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_EMBE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29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nesas Solutions Corporation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sao Munakat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nakata.hisao@renesas.com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73840" y="5877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ranslated by ik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437000"/>
            <a:ext cx="8136000" cy="129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Frequently Heard Complaints in Embedd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mbedded” is a minority in Linux develop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equirement from embedded developers tends to be neg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Kernel 2.6 assumes environment with rich resources -- not suited for 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What should we do as a trigger to have embedded profile incorporated, allowing consistency with mainline kernel development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7135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68360" y="2825640"/>
            <a:ext cx="8280360" cy="1079640"/>
            <a:chOff x="468360" y="2825640"/>
            <a:chExt cx="8280360" cy="1079640"/>
          </a:xfrm>
        </p:grpSpPr>
        <p:sp>
          <p:nvSpPr>
            <p:cNvPr id="94" name=""/>
            <p:cNvSpPr/>
            <p:nvPr/>
          </p:nvSpPr>
          <p:spPr>
            <a:xfrm>
              <a:off x="468360" y="2825640"/>
              <a:ext cx="8280360" cy="1079640"/>
            </a:xfrm>
            <a:prstGeom prst="roundRect">
              <a:avLst>
                <a:gd name="adj" fmla="val 10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640" y="2924280"/>
              <a:ext cx="813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There is an item “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config_embedded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” in kernel configurati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（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dded since kernel 2.6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89440" y="5056200"/>
            <a:ext cx="4824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What does this config s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xpands some of kernel config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An option for selecting options not necessarily required for embedded systems and making tu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sically, only experts are assumed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as no influence on algorithms in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as no influence on parameter setting such as pag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42920" y="2781360"/>
            <a:ext cx="7201080" cy="2087640"/>
            <a:chOff x="1042920" y="2781360"/>
            <a:chExt cx="7201080" cy="2087640"/>
          </a:xfrm>
        </p:grpSpPr>
        <p:sp>
          <p:nvSpPr>
            <p:cNvPr id="100" name=""/>
            <p:cNvSpPr/>
            <p:nvPr/>
          </p:nvSpPr>
          <p:spPr>
            <a:xfrm>
              <a:off x="1042920" y="3069000"/>
              <a:ext cx="7201080" cy="172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2000" y="3069000"/>
              <a:ext cx="216036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UID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M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KALLSY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HOTPL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PRIN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03640" y="2781360"/>
              <a:ext cx="216036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LF_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BASE_F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FU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P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HM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16440" y="3070440"/>
              <a:ext cx="32846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O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JUM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racing back histor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ｰ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58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320840"/>
            <a:ext cx="7934400" cy="47721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900000" y="3429000"/>
            <a:ext cx="7704360" cy="2654280"/>
            <a:chOff x="900000" y="3429000"/>
            <a:chExt cx="7704360" cy="2654280"/>
          </a:xfrm>
        </p:grpSpPr>
        <p:sp>
          <p:nvSpPr>
            <p:cNvPr id="107" name=""/>
            <p:cNvSpPr/>
            <p:nvPr/>
          </p:nvSpPr>
          <p:spPr>
            <a:xfrm>
              <a:off x="900000" y="3429000"/>
              <a:ext cx="770436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71640" y="3429000"/>
              <a:ext cx="75610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t kernel 2.5.68, for the opinion that FUTEX is not necessary for the embedded (footprint too large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),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lan Cox supported it as “Application of Linux to embedded is also important…”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s Alan was promoting no-MMU support then, he took support of CPUs not capble of FUTEX into consideration(?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racing back histor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ｰ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91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189080"/>
            <a:ext cx="8353440" cy="49766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755640" y="1844640"/>
            <a:ext cx="7848720" cy="3313080"/>
            <a:chOff x="755640" y="1844640"/>
            <a:chExt cx="7848720" cy="3313080"/>
          </a:xfrm>
        </p:grpSpPr>
        <p:sp>
          <p:nvSpPr>
            <p:cNvPr id="112" name=""/>
            <p:cNvSpPr/>
            <p:nvPr/>
          </p:nvSpPr>
          <p:spPr>
            <a:xfrm>
              <a:off x="755640" y="1844640"/>
              <a:ext cx="7848720" cy="331308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920" y="1916280"/>
              <a:ext cx="770580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ndrew Morton reviewed the kernel config menu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 and agreed to add setting to separate a part of kernel functions for embedded, when current menu structure was intro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⇒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fter then, it seems that optional items have been added, responding to the requirement from the embedded…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without deep consideration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.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　　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lmost like a sink? “OK, here is the place…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ummary of current config_embe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eems not to be actively used (nor accep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tended to be an extended option to suppress a part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t used for the purpose of adding desired functions or settings for embe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urrent setting does not necessarily reflecting the requirement from embe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or example, FUTEX support is mandatory to use NPT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ather characterized by configuration to support no-MMU architec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mbedded” gets diversified -&gt; no more categorizable as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85 (&gt;1,000 MIPS), SH7751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30 MI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SH7619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MIP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ulti-Core CPU, SMP CPU, Numa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ow we would like to proc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5120" y="1052640"/>
            <a:ext cx="849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Raising the issue how to utilize config_embedded option already supported in kernel 2.6, can’t we actively promote to incorporate profiling for embedded into mai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an’t we propose several requirement profiles for embedded as current kernel tuning paramters and future ext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e want to discuss to propose a direction in coming Jamborees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2:36:43Z</dcterms:created>
  <dc:creator>端山貴也</dc:creator>
  <dc:description/>
  <dc:language>en-US</dc:language>
  <cp:lastModifiedBy>Takao Ikoma</cp:lastModifiedBy>
  <dcterms:modified xsi:type="dcterms:W3CDTF">2006-07-26T12:04:44Z</dcterms:modified>
  <cp:revision>24</cp:revision>
  <dc:subject/>
  <dc:title>CONFIG_EMBEDDED</dc:title>
</cp:coreProperties>
</file>